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312B-F700-41E6-B4A0-2028811D9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33E8-763B-4491-86D1-812CE1699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80FA-838A-4913-9E4B-DC536334A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79D8-46E4-4150-89D2-8F4B9F8D1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385C-40EC-4DFC-8722-1797167B0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28B4D-452E-4FFD-8FC1-6A7AE42D5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10AB-BB66-4C0E-B1CC-8660556A6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4D84-6783-4853-AABC-404C85CE1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C45D1-A367-4902-947A-EA38872EB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AE13-6B35-449D-A32E-23BD756B2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78A8-D2AF-4A81-BBF3-887574DBD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9787-1557-43D5-940C-9E08EB85A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694200" y="6536160"/>
            <a:ext cx="76500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1D20DC1F-9490-48A1-A110-68116F4F25D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618320" y="656172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320" y="6591240"/>
            <a:ext cx="244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BenQ-Siemens, EF81 – November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676520" indent="-23976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2155680" indent="-239400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2155680" indent="-239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5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rry Vodafone Approval plan (SG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ff82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ff82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8000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124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130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38C2-284D-4B33-8B6A-4BF020B818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8:11:40Z</dcterms:created>
  <dc:creator>CB</dc:creator>
  <dc:description/>
  <dc:language>en-US</dc:language>
  <cp:lastModifiedBy>bartlt</cp:lastModifiedBy>
  <cp:lastPrinted>2003-08-14T19:11:01Z</cp:lastPrinted>
  <dcterms:modified xsi:type="dcterms:W3CDTF">2006-02-21T14:41:06Z</dcterms:modified>
  <cp:revision>572</cp:revision>
  <dc:subject/>
  <dc:title>Aurora / Ulysses - Product Overview and Summ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8433915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Jerry-Vodafone-Approval-Plan status 060221.ppt</vt:lpwstr>
  </property>
  <property fmtid="{D5CDD505-2E9C-101B-9397-08002B2CF9AE}" pid="6" name="_NewReviewCycle">
    <vt:lpwstr/>
  </property>
</Properties>
</file>